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673-6900-4AA7-9CF5-ADD7DA5C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CDC-9801-4722-96F4-1292DDD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522-E4CA-41A2-8BD3-6DA56FCE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897-6E1E-418E-8A5E-361BFCE7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66E-18D2-4E3C-AACD-0629E49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715-E5E6-45A1-B272-2D09F40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83B-A95D-43DC-B636-8C23CC6E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CA0-DF1F-43F7-AD7A-3D28AB0B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4E8-5F95-4D9B-AAF1-ED60B08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80E-6A24-444A-996B-2DBD318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AEB-7E2A-4807-90B9-AC718AF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639-3EF5-4CFE-B1FE-051B89A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2824-6236-462B-BFF9-1F0F0EC0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ernard MT Condensed"/>
              </a:rPr>
              <a:t>My Insect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6095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pider an insect?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Do every ladybird have red body and black spots?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What are the three main body parts that an insect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Do all spiders spin web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Do all insect live on lan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8960" y="419112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ax  abdomen and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4648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3280" y="5257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ileen.wu</cp:lastModifiedBy>
  <dcterms:modified xsi:type="dcterms:W3CDTF">2009-06-19T00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